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0BB-370B-42A3-BCDF-F67AA1D7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9C0-73B6-41A9-9174-9050EF3A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A35-1D05-4EEB-939D-BCDB97FE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684-BA91-49B1-A4B5-AAE759F3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ADB-DD38-4A3E-8C69-41529243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B07-FD62-4364-8D3D-D92654BB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CC5-2C30-4F74-A228-51A802D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CA0-ED58-4FD3-8B0F-360B6979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38C-4CA5-4CE6-A126-C7EF331A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11B-CB8D-42FA-92A2-48AC4920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0F3-BFAD-4DE4-92C4-93DE574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4AC-19F0-40C7-A637-77E0777E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0539-E5C8-4BDF-84A7-92BF1760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Christma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Art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3962160"/>
            <a:ext cx="16002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775040"/>
            <a:ext cx="1909800" cy="345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38480" y="5587920"/>
            <a:ext cx="2212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2336760"/>
            <a:ext cx="3314880" cy="202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680" y="50796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mudger LET"/>
              </a:rPr>
              <a:t>Letters To Sa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5994360"/>
            <a:ext cx="4971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ten by St. Jude Kindergarten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ed by Art &amp; Technology Students  -  Grades 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25:14Z</dcterms:created>
  <dc:creator>falcon14</dc:creator>
  <dc:description/>
  <dc:language>en-US</dc:language>
  <cp:lastModifiedBy>Patrick J. Mooney</cp:lastModifiedBy>
  <dcterms:modified xsi:type="dcterms:W3CDTF">2010-12-10T18:13:01Z</dcterms:modified>
  <cp:revision>10</cp:revision>
  <dc:subject/>
  <dc:title>Christmas Art and tech</dc:title>
</cp:coreProperties>
</file>